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693-D783-485A-9320-33E8D6E2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B6C-8045-4EEB-B62A-A335E722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125-F9BB-44B3-A787-1F9A9F6F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96E-0C3F-4EF8-BF4A-37757D0B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997-60F9-4FD3-9C4C-D999FA0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C09-BD1B-4B1C-A63E-B94E41D0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A51-44C2-4B01-92F3-7A9A2CB2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197-4FBF-411A-A5D7-A38BDFDA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73E-9C94-49CB-B7AB-2C0D4135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3CB-179E-44DF-8849-D21BB812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521-20B3-4E5E-864C-0599D8E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989-00C2-4EF2-AEA4-45DD266F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3BF8-231E-43E5-B1AA-46CB5E5F86CA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-228600"/>
            <a:ext cx="815328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فن المح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أحلى طري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للوحدة بين الجم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هي نقاط مهمّة كث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تنحب ودايماً من جدي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ar-JO" sz="4000" spc="-1" strike="noStrike">
                <a:solidFill>
                  <a:srgbClr val="000000"/>
                </a:solidFill>
                <a:latin typeface="Tahoma"/>
                <a:cs typeface="Tahoma"/>
              </a:rPr>
              <a:t>هاي هاي هاي ه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-228600"/>
            <a:ext cx="5715000" cy="12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خلينا نشوف يسو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كلّ النا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نحب الكل مهما ك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لازم من عِنّا تبد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لوحدة دايماً هدف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-228600"/>
            <a:ext cx="5181480" cy="132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حتى الأعداء لازم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كل واحد مثل نفسنا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بتحمل فرح ج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سعادة إلنا وللجميع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3:36:34Z</dcterms:created>
  <dc:creator>user</dc:creator>
  <dc:description/>
  <dc:language>en-US</dc:language>
  <cp:lastModifiedBy>user</cp:lastModifiedBy>
  <dcterms:modified xsi:type="dcterms:W3CDTF">2006-05-05T05:41:18Z</dcterms:modified>
  <cp:revision>9</cp:revision>
  <dc:subject/>
  <dc:title>Slide 1</dc:title>
</cp:coreProperties>
</file>